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E52-6BCB-40CB-8B3C-36C1A030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7D1-D06C-4230-A4CF-3E38FF7A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7D1-1410-4561-8DC4-F2BFD0B4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DF9-C489-4A92-8223-7A841EF2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B2C-CD94-498A-8139-EEF67C75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D21-5BB3-457C-AF41-6D6E4845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CF9-FB9F-4CF7-98DB-81E3419D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EF2-FCF8-4442-BAFD-A26AA1EB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D4D-78D4-4040-B053-981EC19E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C41-F992-4064-A73A-09F89821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73B-FBBD-441F-A560-E4D7603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8E0-AC6B-498F-AECB-F6FA9E6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6B7C-2080-47B9-AD1B-CD47BCF37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4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2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ch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di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ufro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fe Y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win Arlington Robi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two strengths that distinguished Robinson as a 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win Arlington Robi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is native voice -or- his ironic view of human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chard Co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reason people of the town look up to C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chard Co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’s wealthy, clean, slim, quiet, human when he tal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chard Co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that happened at the end of the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chard Co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killed him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ver Cheev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ver’s 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ver Cheev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 live in the medieval tim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ver Cheev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me of “Miniver Cheev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ver Cheev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ishing for the impossible leads to failure and mis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nest Heming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most of his stories were ab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ver Cheev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tymology of the word Min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ver Cheev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white fur trim, sometimes ermine, seen on the costumes of royalty in medieval and Renaissance por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in character’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arold Kr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he doesn’t want a girl in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doesn’t want the work and the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me of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ar changes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ays Krebs has 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705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e can’t show emotion (can’t lo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oesn’t want consequences (wo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ost religion (can’t pr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nest Heming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ar and hunting (fis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belief of the war by the townspeop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w it is proven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ey can get women from the area -reality- they aren’t that pret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r is all blood and guts -reality- Krebs has to make up stories to keep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Soldiers can just go back to the way things were -reality- Krebs can’t get his life back on tr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hings Prufrock is self consciou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is bald spot, skinny arms and legs, lack of communication skills, being too old, being stereotyped/cast out, can’t take back actions and comments, not a h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ning of the mermaids not singing to Pruf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can’t even get the lowest of women (the ones who want to kill h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Prufrock compares himself to a cr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keeps reaching trying to grasp something, but gets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lanation of the 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loses hope or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win Arlington Robi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interested in Robinson’s writing, who also got him a better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ne that is set from the beg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it is Prufrock’s own 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of mother and dau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Lucyn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hings Shiftlet tells the Lucynell’s about him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0000" y="2523960"/>
            <a:ext cx="1839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was a gospel singer, served in the military, seen every foreign land, had “moral intelligence”, worked for the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Shiftlet is a hypoc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told the boy not to leave his mother, even though he left his m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de young Lucynell leave her m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e left young Lucynell (he’s not one to be telling others not to leave peo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shadowing of clou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bad pa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d things to come (fu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win Arlington Robi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President Theodore Roosev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point O’Connor is trying to make - the story’s t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people are straying from God and becoming too sel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.S. Eli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tle of Eliot’s most famous poem, some even considered it a major poem of the 20th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.S. Eli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“The Waste L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nnery O’Conn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ttractions she focused on in her writings to prove that people were straying from G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nnery O’Conn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grotesque and vio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Mindi Spear</cp:lastModifiedBy>
  <dcterms:modified xsi:type="dcterms:W3CDTF">2007-02-19T22:18:58Z</dcterms:modified>
  <cp:revision>53</cp:revision>
  <dc:subject/>
  <dc:title>No Slide Title</dc:title>
</cp:coreProperties>
</file>